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11.png" ContentType="image/png"/>
  <Override PartName="/ppt/media/image6.wmf" ContentType="image/x-wmf"/>
  <Override PartName="/ppt/media/image18.wmf" ContentType="image/x-wmf"/>
  <Override PartName="/ppt/media/image15.gif" ContentType="image/gif"/>
  <Override PartName="/ppt/media/image1.png" ContentType="image/png"/>
  <Override PartName="/ppt/media/image16.png" ContentType="image/png"/>
  <Override PartName="/ppt/media/image14.wmf" ContentType="image/x-wmf"/>
  <Override PartName="/ppt/media/image2.jpeg" ContentType="image/jpeg"/>
  <Override PartName="/ppt/media/image3.png" ContentType="image/png"/>
  <Override PartName="/ppt/media/image5.png" ContentType="image/png"/>
  <Override PartName="/ppt/media/image7.png" ContentType="image/png"/>
  <Override PartName="/ppt/media/image17.wmf" ContentType="image/x-wmf"/>
  <Override PartName="/ppt/media/image9.png" ContentType="image/png"/>
  <Override PartName="/ppt/media/image4.jpeg" ContentType="image/jpeg"/>
  <Override PartName="/ppt/media/image10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7E8B-EABA-4102-A834-BC0F317C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D133-0A47-49D9-AC2D-7201D63F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815-ABFE-4552-BA14-93A346E2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74C-AA92-45C6-8F85-520D8E77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EA03-71C2-4979-906B-C0EBD11FF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85FE-CB47-4051-9AB6-9EE65733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A48B-ECB7-4730-B0F2-260B2E3C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246A-7F6B-4956-8564-9F1CA315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ADC5-6EA9-466F-8B45-6F3922ED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0CB3-B97E-4A94-B79B-F4081721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292F-3A01-44DD-ACC9-611FD692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A8F1-1C78-42FB-A375-0838BD54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9C15-688A-49E2-B961-F5F1B60A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24A8-F16F-4518-8AA8-2A9E229B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1DA3-59E0-4320-9D5D-B5D47E8F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8327-B6A3-4DBF-AE04-BA26240D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D10C-3D6F-497C-9E9D-EB6EFF04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ED749-D1EA-44D2-A21B-ED56BF86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3D97F-8F46-4EBE-B35A-3C2D533E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981E0-6531-4227-AAC2-F320228C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87AB6-75B4-474F-9D3F-929F1143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0EC2E-1832-4F82-8E27-663E96E0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9D97-9297-4FC3-82CA-C0FC2C55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64DCE-12E7-433E-A033-DC23B229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39608-FBCB-4B55-B773-4AC16E88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E0313-8E9D-483E-91FC-B10E5641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B3B74-2E76-4621-8008-035F43F3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8AA17-044F-4053-AD35-9A188E29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B26E4-F4AB-4762-BDE3-82DAFCC2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03C91-8E65-46CE-B5A6-E374CFE4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82FC4-8F52-4B34-B345-8EF9F97D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C5DC2-8E55-49F6-AFAC-A7312780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82682-9536-4269-AA89-37007395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AD11-BB12-4921-BDBB-5FA6F809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3BC09-1E76-4D08-81B0-31E7671B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A55B1-F2A0-46C4-8B37-0680CC4B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DE726-F640-4E40-BC15-05916DE8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D958A-CB39-45DD-B2EA-E48BD2C4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B5CA6-9DA2-41DC-B16B-F3FC4687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AF045-D7CB-42BC-92A4-EEE9D82B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594BB-0BA0-4E14-8C35-B66089FA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75010-A6FD-431E-9286-B6CC24A1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0458B-9182-4073-BF39-56EA75B9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310EB-78C5-4CE6-A9A3-B4063D1D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1B7-4368-4FE8-88F8-D9E9051A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1AE33-12F0-4172-A1C9-C8D727DC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3B71C-9DC0-4863-BF35-167586B3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CE674-2D9D-472A-9E21-4FC7B8C2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12066-760D-4545-BC7B-0F559E3F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04877-DB63-425A-8198-0C9F0AEE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8E278-27F8-4670-9CFF-CF663A5F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DBE96-629A-451B-ADFE-0FDEFD87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C6A97-B9F3-4D62-8F67-A051ECF7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D8CAA-4BC4-4C4C-BF7C-4114D004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A5FC7-F5B4-426B-A070-DF7A4D09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7B4-4377-4692-8D3B-12116F2F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73E16-6C07-42A3-A89F-279F850B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6A6-435A-4F43-9200-8C472813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2BD-172E-4EBF-A7F0-94ED5122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1A8-8F4F-4F01-8F87-4E5F84F2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0297-63D1-4791-92F0-EDBEF163888D}" type="slidenum">
              <a:rPr b="0" lang="en-A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644F-76EA-4565-9830-0089B1BE8305}" type="slidenum">
              <a:rPr b="0" lang="en-A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54ED-BABD-412B-8FF8-567065BC45C3}" type="slidenum">
              <a:rPr b="0" lang="en-A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DD32-F69B-4A30-BA66-43EFEABF7818}" type="slidenum">
              <a:rPr b="0" lang="en-A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A9D6-E576-407E-8E0D-28C63404B0E2}" type="slidenum">
              <a:rPr b="0" lang="en-A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781200" y="420840"/>
            <a:ext cx="8057880" cy="1481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214280" y="1857240"/>
            <a:ext cx="6858000" cy="414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ffde66"/>
                </a:solidFill>
                <a:uFillTx/>
                <a:latin typeface="Trebuchet MS"/>
                <a:hlinkClick r:id="rId2" action="ppaction://hlinksldjump"/>
              </a:rPr>
              <a:t>Radar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ffde66"/>
                </a:solidFill>
                <a:uFillTx/>
                <a:latin typeface="Trebuchet MS"/>
                <a:hlinkClick r:id="rId3" action="ppaction://hlinksldjump"/>
              </a:rPr>
              <a:t>Thrus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rebuchet MS"/>
              </a:rPr>
              <a:t>Flap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rebuchet MS"/>
              </a:rPr>
              <a:t>Launch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rebuchet MS"/>
              </a:rPr>
              <a:t>engin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4" descr="C:\Program Files\Microsoft Office\Media\CntCD1\ClipArt5\j0280308.wmf"/>
          <p:cNvPicPr/>
          <p:nvPr/>
        </p:nvPicPr>
        <p:blipFill>
          <a:blip r:embed="rId4"/>
          <a:stretch/>
        </p:blipFill>
        <p:spPr>
          <a:xfrm>
            <a:off x="500040" y="2643120"/>
            <a:ext cx="450072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3206880" y="268200"/>
            <a:ext cx="5089320" cy="13845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71360" y="3357720"/>
            <a:ext cx="7786440" cy="107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Trebuchet MS"/>
              </a:rPr>
              <a:t>A system that detects radio waves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285840" y="5500800"/>
            <a:ext cx="2214360" cy="642600"/>
          </a:xfrm>
          <a:prstGeom prst="rect">
            <a:avLst/>
          </a:prstGeom>
          <a:solidFill>
            <a:srgbClr val="d48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b050"/>
                </a:solidFill>
                <a:latin typeface="Calibri"/>
              </a:rPr>
              <a:t>Back to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C:\Program Files\Microsoft Office\Media\CntCD1\ClipArt5\j0280332.wmf"/>
          <p:cNvPicPr/>
          <p:nvPr/>
        </p:nvPicPr>
        <p:blipFill>
          <a:blip r:embed="rId2"/>
          <a:stretch/>
        </p:blipFill>
        <p:spPr>
          <a:xfrm>
            <a:off x="357120" y="500040"/>
            <a:ext cx="221472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633240" y="566640"/>
            <a:ext cx="8291520" cy="14814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14240" y="2785680"/>
            <a:ext cx="7786800" cy="207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00000"/>
                </a:solidFill>
                <a:latin typeface="Trebuchet MS"/>
              </a:rPr>
              <a:t>A force of propellers pushes the aircraft forward.</a:t>
            </a:r>
            <a:endParaRPr b="0" lang="en-US" sz="5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85840" y="5572080"/>
            <a:ext cx="2214360" cy="642600"/>
          </a:xfrm>
          <a:prstGeom prst="rect">
            <a:avLst/>
          </a:prstGeom>
          <a:solidFill>
            <a:srgbClr val="d48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Back to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C:\Program Files\Microsoft Office\Media\CntCD1\ClipArt3\j0232802.wmf"/>
          <p:cNvPicPr/>
          <p:nvPr/>
        </p:nvPicPr>
        <p:blipFill>
          <a:blip r:embed="rId2"/>
          <a:stretch/>
        </p:blipFill>
        <p:spPr>
          <a:xfrm>
            <a:off x="357120" y="357120"/>
            <a:ext cx="222408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493560" y="353880"/>
            <a:ext cx="8290080" cy="14814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14240" y="1785600"/>
            <a:ext cx="7786800" cy="342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00000"/>
                </a:solidFill>
                <a:latin typeface="Trebuchet MS"/>
              </a:rPr>
              <a:t>A narrow movable surface attached to the back end of an aircraft wing  that is used to create lift or drag.</a:t>
            </a:r>
            <a:endParaRPr b="0" lang="en-US" sz="5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285840" y="5572080"/>
            <a:ext cx="2214360" cy="642600"/>
          </a:xfrm>
          <a:prstGeom prst="rect">
            <a:avLst/>
          </a:prstGeom>
          <a:solidFill>
            <a:srgbClr val="d48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Back to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C:\Program Files\Microsoft Office\Media\CntCD1\ClipArt5\j0280311.wmf"/>
          <p:cNvPicPr/>
          <p:nvPr/>
        </p:nvPicPr>
        <p:blipFill>
          <a:blip r:embed="rId2"/>
          <a:stretch/>
        </p:blipFill>
        <p:spPr>
          <a:xfrm>
            <a:off x="4286160" y="5072040"/>
            <a:ext cx="29257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493560" y="353880"/>
            <a:ext cx="8290080" cy="1481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714240" y="1785600"/>
            <a:ext cx="7786800" cy="342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Trebuchet MS"/>
              </a:rPr>
              <a:t>For the aircraft to takeoff or launch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285840" y="5572080"/>
            <a:ext cx="2214360" cy="642600"/>
          </a:xfrm>
          <a:prstGeom prst="rect">
            <a:avLst/>
          </a:prstGeom>
          <a:solidFill>
            <a:srgbClr val="d48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Back to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C:\Program Files\Microsoft Office\Media\CntCD1\ClipArt1\j0212247.wmf"/>
          <p:cNvPicPr/>
          <p:nvPr/>
        </p:nvPicPr>
        <p:blipFill>
          <a:blip r:embed="rId2"/>
          <a:srcRect l="14515" t="0" r="0" b="0"/>
          <a:stretch/>
        </p:blipFill>
        <p:spPr>
          <a:xfrm>
            <a:off x="357120" y="1643040"/>
            <a:ext cx="2102040" cy="3398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Program Files\Microsoft Office\Media\CntCD1\Animated\j0288894.gif"/>
          <p:cNvPicPr/>
          <p:nvPr/>
        </p:nvPicPr>
        <p:blipFill>
          <a:blip r:embed="rId3"/>
          <a:stretch/>
        </p:blipFill>
        <p:spPr>
          <a:xfrm>
            <a:off x="3286080" y="3929040"/>
            <a:ext cx="30006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493560" y="353880"/>
            <a:ext cx="8290080" cy="14814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714240" y="1785600"/>
            <a:ext cx="7786800" cy="342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Trebuchet MS"/>
              </a:rPr>
              <a:t>The engine makes the aircraft fly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285840" y="5643720"/>
            <a:ext cx="2214360" cy="642600"/>
          </a:xfrm>
          <a:prstGeom prst="rect">
            <a:avLst/>
          </a:prstGeom>
          <a:solidFill>
            <a:srgbClr val="d48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Back to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C:\Program Files\Microsoft Office\Media\CntCD1\ClipArt3\j0233068.wmf"/>
          <p:cNvPicPr/>
          <p:nvPr/>
        </p:nvPicPr>
        <p:blipFill>
          <a:blip r:embed="rId2"/>
          <a:stretch/>
        </p:blipFill>
        <p:spPr>
          <a:xfrm>
            <a:off x="5857920" y="4214880"/>
            <a:ext cx="2979720" cy="1346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C:\Program Files\Microsoft Office\Media\CntCD1\ClipArt1\j0196170.wmf"/>
          <p:cNvPicPr/>
          <p:nvPr/>
        </p:nvPicPr>
        <p:blipFill>
          <a:blip r:embed="rId3"/>
          <a:stretch/>
        </p:blipFill>
        <p:spPr>
          <a:xfrm>
            <a:off x="285840" y="2857680"/>
            <a:ext cx="17859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23:47:50Z</dcterms:created>
  <dc:creator>Education</dc:creator>
  <dc:description/>
  <dc:language>en-US</dc:language>
  <cp:lastModifiedBy>Education</cp:lastModifiedBy>
  <dcterms:modified xsi:type="dcterms:W3CDTF">2009-07-24T02:45:53Z</dcterms:modified>
  <cp:revision>11</cp:revision>
  <dc:subject/>
  <dc:title>Slide 1</dc:title>
</cp:coreProperties>
</file>